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7BB8-7093-49FF-8E9A-C4AFBC4A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21E5-7BA6-48C3-83B5-6B6FAE2C4D5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394A-BB1D-424F-9C83-DCE825B46F42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7A58-8E8E-472B-94BE-B89B93AFA511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8EF-E685-4071-975B-3B1CC490D244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0F4D-59A3-4154-9387-6B09AE47DBC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D41F-45CE-4CA1-91D8-1AC8CBCB648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2B4F-0B2F-4038-B868-800C85CC925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DAF6-C269-4129-8E51-C4DC6A7A517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554D-C8A5-4378-909A-F1EE9DD2966C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B038-B22C-435E-B8D4-DF428904CECC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553-093A-4D6D-B2DB-746F8736291B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C1ED-EFAF-44C9-BDF3-0CA742641711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7C2F-F610-4293-9352-2E4E981B5206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826F-7E95-4711-9CD2-2808EE8FD816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4947-BBEA-4A31-A36C-5CA2408DE1C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020-23ED-4B08-88AD-7E38B60D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DF0-D3FC-438D-B2FF-B75C2052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726-5BF8-437E-AB78-372F7441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50E-5A6B-4960-8A29-0F40AC8F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A59-4721-4072-8542-176EAE35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9BF6-3B30-4E38-9E1A-4FA68E5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3EC2-DC5A-4D37-850D-B5BA59C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FD8B-B48D-44A8-9836-0CD8C920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E154-899D-4E23-AFDB-105B30BC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351B-6BF8-48C0-91C2-688B9E3E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7C3F-3A20-4988-84AE-6BD1044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00D-BF7E-402B-90A3-47512139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1BD9-22AC-4E11-82A6-C3DED6F3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2EE6-D205-464F-8EAC-3D64202D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384B-C09E-4E00-AFB1-FE5CF66C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A9FF-1E7F-49D3-B95A-20137066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B3E2-A1AF-4703-8044-EFEBBF50F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5E8-B2C4-466B-9FAA-5EF5217E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EA7-14BD-4145-9452-6E0416E8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7DF-419A-4CFC-8D05-D350D4D3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680-2427-45F7-9D41-CDFF087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A57-C4DD-429F-80A5-CC979C5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95A-6CCC-49BD-A133-A0230E0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583-D181-4A00-9E26-757F025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C5EC-12D6-496C-9311-590CF8A78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F04F-9D5F-436D-8D72-BA633F1CBD43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dusave.edu.tw/care.asp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66"/>
                </a:solidFill>
                <a:latin typeface="文鼎粗圓"/>
                <a:ea typeface="文鼎粗圓"/>
              </a:rPr>
              <a:t>輔導處報告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三技藝學程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(9/20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開始上課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A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班（協和）、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B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班（光隆）於週四上課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超研澤特圓"/>
                <a:ea typeface="超研澤特圓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特教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身心障礙生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IEP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，特教師將與導師聯絡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高中特教老師：林佳慧 老師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第一週 入班觀察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第二週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IEP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規劃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特教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安置普通班身心障礙學生，開學後將陸續召開</a:t>
            </a:r>
            <a:r>
              <a:rPr b="0" lang="en-US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IEP</a:t>
            </a:r>
            <a:r>
              <a:rPr b="0" lang="zh-TW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會議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高輔中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99"/>
                </a:solidFill>
                <a:latin typeface="文鼎粗圓"/>
                <a:ea typeface="文鼎粗圓"/>
              </a:rPr>
              <a:t>「乘著學習的翅膀」學習輔導計畫：將舉辦講座、學習小團體、班級座談、手冊彙編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家長日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中部：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19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（三）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         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18:30-21:00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高中部：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16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（日）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             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13:50-17:00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重要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6699"/>
                </a:solidFill>
                <a:latin typeface="文鼎粗圓"/>
                <a:ea typeface="文鼎粗圓"/>
              </a:rPr>
              <a:t>發現疑似家暴、性侵、性騷擾、受虐、自我傷害等個案，依法須在知悉後</a:t>
            </a:r>
            <a:r>
              <a:rPr b="0" lang="en-US" sz="6000" spc="-1" strike="noStrike">
                <a:solidFill>
                  <a:srgbClr val="006699"/>
                </a:solidFill>
                <a:latin typeface="文鼎粗圓"/>
                <a:ea typeface="文鼎粗圓"/>
              </a:rPr>
              <a:t>24</a:t>
            </a:r>
            <a:r>
              <a:rPr b="0" lang="zh-TW" sz="6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小時內通報。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處團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主任：晉強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輔導組長：書萱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生涯組長：惠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特教組長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芳瑜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高中專輔：淑萍     國中專輔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怡蒨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高中特教老師：佳慧  高中協助行政：慧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駐區學校社工：筱楓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小巡迴特教老師：逸瑩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處團隊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特教班導師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書沛</a:t>
            </a: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、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瀚華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中資源班召集人：鈺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中特教老師：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怡伶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Verdana"/>
              </a:rPr>
              <a:t>國中兼輔老師</a:t>
            </a:r>
            <a:r>
              <a:rPr b="0" lang="zh-TW" sz="3200" spc="-1" strike="noStrike">
                <a:solidFill>
                  <a:srgbClr val="ff0000"/>
                </a:solidFill>
                <a:latin typeface="Verdana"/>
              </a:rPr>
              <a:t>：缺員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善用社會資源協助學生就學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基隆地檢署投資教育創造未來</a:t>
            </a:r>
            <a:r>
              <a:rPr b="0" lang="zh-TW" sz="4000" spc="-1" strike="noStrike">
                <a:solidFill>
                  <a:srgbClr val="ff9933"/>
                </a:solidFill>
                <a:latin typeface="文鼎粗圓"/>
                <a:ea typeface="文鼎粗圓"/>
              </a:rPr>
              <a:t>扶貧計畫、</a:t>
            </a:r>
            <a:r>
              <a:rPr b="0" lang="zh-TW" sz="4000" spc="-1" strike="noStrike">
                <a:solidFill>
                  <a:srgbClr val="ff3300"/>
                </a:solidFill>
                <a:latin typeface="文鼎粗圓"/>
                <a:ea typeface="文鼎粗圓"/>
              </a:rPr>
              <a:t>教育儲蓄戶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、福慧基金、教育基金及其他社福資源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2" name="Picture 5" descr="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11640"/>
            <a:ext cx="3276720" cy="264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特殊個案請利用</a:t>
            </a:r>
            <a:r>
              <a:rPr b="0" lang="zh-TW" sz="4000" spc="-1" strike="noStrike">
                <a:solidFill>
                  <a:srgbClr val="cc99ff"/>
                </a:solidFill>
                <a:latin typeface="文鼎粗圓"/>
                <a:ea typeface="文鼎粗圓"/>
              </a:rPr>
              <a:t>個案關懷卡</a:t>
            </a:r>
            <a:r>
              <a:rPr b="0" lang="en-US" sz="4000" spc="-1" strike="noStrike">
                <a:solidFill>
                  <a:srgbClr val="cc99ff"/>
                </a:solidFill>
                <a:latin typeface="文鼎粗圓"/>
                <a:ea typeface="文鼎粗圓"/>
              </a:rPr>
              <a:t>A</a:t>
            </a:r>
            <a:r>
              <a:rPr b="0" lang="zh-TW" sz="4000" spc="-1" strike="noStrike">
                <a:solidFill>
                  <a:srgbClr val="cc99ff"/>
                </a:solidFill>
                <a:latin typeface="文鼎粗圓"/>
                <a:ea typeface="文鼎粗圓"/>
              </a:rPr>
              <a:t>卡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轉介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中輟學生通報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連續三天無故未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曠課累計</a:t>
            </a:r>
            <a:r>
              <a:rPr b="0" lang="en-US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49</a:t>
            </a:r>
            <a:r>
              <a:rPr b="0" lang="zh-TW" sz="3200" spc="-1" strike="noStrike">
                <a:solidFill>
                  <a:srgbClr val="006699"/>
                </a:solidFill>
                <a:latin typeface="文鼎粗圓"/>
                <a:ea typeface="文鼎粗圓"/>
              </a:rPr>
              <a:t>小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即時聯絡家訪並記錄輔導</a:t>
            </a:r>
            <a:r>
              <a:rPr b="0" lang="en-US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B</a:t>
            </a:r>
            <a:r>
              <a:rPr b="0" lang="zh-TW" sz="4000" spc="-1" strike="noStrike">
                <a:solidFill>
                  <a:srgbClr val="006699"/>
                </a:solidFill>
                <a:latin typeface="文鼎粗圓"/>
                <a:ea typeface="文鼎粗圓"/>
              </a:rPr>
              <a:t>表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輔導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中高關懷班推薦入班：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14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五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前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心理師諮詢服務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超研澤特圓"/>
                <a:ea typeface="超研澤特圓"/>
              </a:rPr>
              <a:t>       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學生輔導</a:t>
            </a:r>
            <a:r>
              <a:rPr b="0" lang="en-US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B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表，請務必上網填寫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每位學生每學期至少紀錄一次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一綜合資料表</a:t>
            </a:r>
            <a:r>
              <a:rPr b="0" lang="en-US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&amp;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相片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 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將彙整影印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 </a:t>
            </a:r>
            <a:r>
              <a:rPr b="0" lang="zh-TW" sz="48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小資料表，請注意資料保密及保管。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生涯發展組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文鼎粗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國三技藝專班，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每週二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協和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、四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培德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至高職上課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8/30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四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留校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	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9/4(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四</a:t>
            </a:r>
            <a:r>
              <a:rPr b="0" lang="en-US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)</a:t>
            </a:r>
            <a:r>
              <a:rPr b="0" lang="zh-TW" sz="4400" spc="-1" strike="noStrike">
                <a:solidFill>
                  <a:srgbClr val="006699"/>
                </a:solidFill>
                <a:latin typeface="文鼎粗圓"/>
                <a:ea typeface="文鼎粗圓"/>
              </a:rPr>
              <a:t>正式上課。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8832</dc:creator>
  <dc:description/>
  <dc:language>en-US</dc:language>
  <cp:lastModifiedBy>aa8832</cp:lastModifiedBy>
  <dcterms:modified xsi:type="dcterms:W3CDTF">2012-09-06T08:00:34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